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2935-B1E0-43D1-8318-012829ED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BA0E-8C52-4CBE-9668-A1447E63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63DE-8354-43D6-829A-7E3B3068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369-4272-41CC-898F-BE48F78E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396-7B12-4A31-BC59-747B1B49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193-EE14-479A-94C1-E34B6A07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DFF-92DA-40F3-80C3-1E778605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4C15-5956-4247-BDD2-E755E11F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29D5-2035-40E7-980A-1D40D939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212-FCBD-4FA7-BEB6-878F4C0A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B33-0FF1-4B3C-A3BB-B6605385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7C1E-4B60-4982-8C64-DF00969C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4122-2EF6-4910-AFD9-E2A02B1D7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dwilliams2\AppData\Local\Microsoft\Windows\Temporary Internet Files\Content.IE5\WGVGCCAF\MC900023301[1].wmf"/>
          <p:cNvPicPr/>
          <p:nvPr/>
        </p:nvPicPr>
        <p:blipFill>
          <a:blip r:embed="rId1"/>
          <a:stretch/>
        </p:blipFill>
        <p:spPr>
          <a:xfrm>
            <a:off x="76320" y="46080"/>
            <a:ext cx="6629400" cy="8945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dwilliams2\AppData\Local\Microsoft\Windows\Temporary Internet Files\Content.IE5\2DC45C48\MC900434461[1].wmf"/>
          <p:cNvPicPr/>
          <p:nvPr/>
        </p:nvPicPr>
        <p:blipFill>
          <a:blip r:embed="rId2"/>
          <a:stretch/>
        </p:blipFill>
        <p:spPr>
          <a:xfrm>
            <a:off x="2479680" y="1371600"/>
            <a:ext cx="1822320" cy="1301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47920" y="2590560"/>
            <a:ext cx="39621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01:17:38Z</dcterms:created>
  <dc:creator>Deborah Williams</dc:creator>
  <dc:description/>
  <dc:language>en-US</dc:language>
  <cp:lastModifiedBy>Deborah Williams</cp:lastModifiedBy>
  <dcterms:modified xsi:type="dcterms:W3CDTF">2012-10-10T17:43:00Z</dcterms:modified>
  <cp:revision>2</cp:revision>
  <dc:subject/>
  <dc:title>PowerPoint Presentation</dc:title>
</cp:coreProperties>
</file>